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57F8-317F-41F2-A1E0-77E3E473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A98-EBD3-46B9-A499-72F54AE7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D0C-C858-42C9-998C-9C8F3E05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85C-F407-4BC1-8D33-16BEDA29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3052-FB8C-4A62-9F57-D8463601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8B36-689E-42C9-BF0B-F2250133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E1C3-F332-4BC3-A65C-B7C4705F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1B89-049C-4E2F-8446-ED450EA5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A23A-F510-424D-AB07-D995B9C5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12AD-876A-4E26-B9EF-1A6353DE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EE73-69A0-43AC-80C4-094FEAB6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D4D-C9B6-479D-86C0-6A388AF9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8E71-FBE1-4A52-A696-54FFE129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19BB-5E62-48BA-B043-7A8EF034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ECBA-EA82-4702-AC33-7F0DB2FE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7C11-2943-454F-9FD0-DFAF77CB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976A-F99E-473B-A039-3153BE2E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56C-6A12-464C-9742-3103D428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E92-9A7B-4709-9CFA-59C9BDAA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D57-E774-480C-9C2E-833F5243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432-9729-4853-93A7-ECD972AA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B26-ADC6-4B16-893B-F6E8A07A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3DE-E289-4AAE-A1D6-90FC07AA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3CC-8A1F-4982-8FFD-A37432A2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0F0F-9C8C-470F-B345-C97A508884F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9330-30BB-4DFB-B268-16A36312611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stalker.fizteh.ru/art_photo/fotosessions/troice_sergieva_lavra.html?start=0&amp;img=417094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hyperlink" Target="http://stalker.fizteh.ru/art_photo/fotosessions/troice_sergieva_lavra.html?start=0&amp;img=417079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52360" y="-603360"/>
            <a:ext cx="9034560" cy="540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cc"/>
                </a:solidFill>
                <a:latin typeface="Agency FB"/>
              </a:rPr>
              <a:t>Да ведают потомки православных </a:t>
            </a:r>
            <a:br>
              <a:rPr sz="4800"/>
            </a:br>
            <a:br>
              <a:rPr sz="2000"/>
            </a:br>
            <a:r>
              <a:rPr b="0" i="1" lang="ru-RU" sz="4800" spc="-1" strike="noStrike">
                <a:solidFill>
                  <a:srgbClr val="ffffcc"/>
                </a:solidFill>
                <a:latin typeface="Agency FB"/>
              </a:rPr>
              <a:t>Земли родной минувшую судьбу…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085 STING - OCEAN VALTZ.mp3" descr=""/>
          <p:cNvPicPr/>
          <p:nvPr/>
        </p:nvPicPr>
        <p:blipFill>
          <a:blip r:embed="rId1"/>
          <a:stretch/>
        </p:blipFill>
        <p:spPr>
          <a:xfrm>
            <a:off x="53964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589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10_708"/>
          <p:cNvPicPr/>
          <p:nvPr/>
        </p:nvPicPr>
        <p:blipFill>
          <a:blip r:embed="rId1"/>
          <a:stretch/>
        </p:blipFill>
        <p:spPr>
          <a:xfrm rot="20950200">
            <a:off x="250560" y="259920"/>
            <a:ext cx="1514520" cy="2303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5"/>
          <p:cNvSpPr/>
          <p:nvPr/>
        </p:nvSpPr>
        <p:spPr>
          <a:xfrm>
            <a:off x="1979640" y="476280"/>
            <a:ext cx="662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ерк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Преподобный Сергий Радонежский»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ошел в сборник произведений классика Серебряного века и русского зарубежь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.К.Зайцева «Преподобный Сергий Радонежский: Духовная проза»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писан он в 20-е годы прошлого ве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6" descr="10_709"/>
          <p:cNvPicPr/>
          <p:nvPr/>
        </p:nvPicPr>
        <p:blipFill>
          <a:blip r:embed="rId2"/>
          <a:stretch/>
        </p:blipFill>
        <p:spPr>
          <a:xfrm>
            <a:off x="7380360" y="1916280"/>
            <a:ext cx="1562040" cy="2374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7"/>
          <p:cNvSpPr/>
          <p:nvPr/>
        </p:nvSpPr>
        <p:spPr>
          <a:xfrm>
            <a:off x="3059280" y="2133720"/>
            <a:ext cx="4095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нига «Сергий Радонежский», автор известный историк Николай  Сергеевич Борис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впервые вышедшая в серии «ЖЗЛ», будет естественным дополнением к предыдущим книгам о Сергии Радонежском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18" descr="10_707"/>
          <p:cNvPicPr/>
          <p:nvPr/>
        </p:nvPicPr>
        <p:blipFill>
          <a:blip r:embed="rId3"/>
          <a:stretch/>
        </p:blipFill>
        <p:spPr>
          <a:xfrm>
            <a:off x="324000" y="4076640"/>
            <a:ext cx="1722240" cy="2565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9"/>
          <p:cNvSpPr/>
          <p:nvPr/>
        </p:nvSpPr>
        <p:spPr>
          <a:xfrm>
            <a:off x="2050920" y="4313520"/>
            <a:ext cx="6451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нига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Путь на Маковец: Читаем « Житие Сергия Радонежского» Епифания Премудрог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- первый опыт чтения житийной литературы в школе. Она знакомит школьников с выдающимся памятником русской агиографии  (вид христианской литературы, содержащий жизнеописания «святых») – «Житием Сергея Радонежского»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Gill Sans MT"/>
              </a:rPr>
              <a:t>Синквейн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Rockwell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Rockwell Extra Bold"/>
              </a:rPr>
              <a:t>Сергий Радонежск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Rockwell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Rockwell Extra Bold"/>
              </a:rPr>
              <a:t>Два существитель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Rockwell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Rockwell Extra Bold"/>
              </a:rPr>
              <a:t>Три прилагатель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Rockwell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Rockwell Extra Bold"/>
              </a:rPr>
              <a:t>Три – четыре глаго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Rockwell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Rockwell Extra Bold"/>
              </a:rPr>
              <a:t>Обобщающая фра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Rockwell Extra Bold"/>
              </a:rPr>
              <a:t>Разминка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ill Sans Ultra Bold Condensed"/>
              </a:rPr>
              <a:t>Былина</a:t>
            </a:r>
            <a:r>
              <a:rPr b="0" i="1" lang="ru-RU" sz="4800" spc="-1" strike="noStrike">
                <a:solidFill>
                  <a:srgbClr val="ffffff"/>
                </a:solidFill>
                <a:latin typeface="Gill Sans Ultra Bold Condense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ill Sans Ultra Bold Condensed"/>
              </a:rPr>
              <a:t>Богатыри</a:t>
            </a:r>
            <a:r>
              <a:rPr b="0" i="1" lang="ru-RU" sz="4800" spc="-1" strike="noStrike">
                <a:solidFill>
                  <a:srgbClr val="ffffff"/>
                </a:solidFill>
                <a:latin typeface="Gill Sans Ultra Bold Condense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ill Sans Ultra Bold Condensed"/>
              </a:rPr>
              <a:t>Идеализация</a:t>
            </a:r>
            <a:r>
              <a:rPr b="0" i="1" lang="ru-RU" sz="4800" spc="-1" strike="noStrike">
                <a:solidFill>
                  <a:srgbClr val="ffffff"/>
                </a:solidFill>
                <a:latin typeface="Gill Sans Ultra Bold Condense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ill Sans Ultra Bold Condensed"/>
              </a:rPr>
              <a:t>(Житие) (агиография</a:t>
            </a:r>
            <a:r>
              <a:rPr b="0" i="1" lang="ru-RU" sz="4800" spc="-1" strike="noStrike">
                <a:solidFill>
                  <a:srgbClr val="ffffff"/>
                </a:solidFill>
                <a:latin typeface="Gill Sans Ultra Bold Condensed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-21420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Rockwell Extra Bold"/>
              </a:rPr>
              <a:t>«Святой» - …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714240"/>
            <a:ext cx="896472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Script MT Bold"/>
              </a:rPr>
              <a:t>В религиозных представлениях: обладающий божественной благодать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Script MT Bold"/>
              </a:rPr>
              <a:t>Проникнутый высокими чувствами, возвышенный, идеаль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Script MT Bold"/>
              </a:rPr>
              <a:t>В христианстве и некоторых других религиях: человек, посвятивший свою жизнь церкви, а после смерти признанный образцом праведной жизни и носителем чудодейственной сил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Script MT Bold"/>
              </a:rPr>
              <a:t>(С.И. Ожегов, Н.Ю. Шведова «Толковый словарь русского языка», стр. 7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Rockwell Extra Bold"/>
              </a:rPr>
              <a:t>Святой</a:t>
            </a:r>
            <a:r>
              <a:rPr b="0" lang="ru-RU" sz="4400" spc="-1" strike="noStrike">
                <a:solidFill>
                  <a:srgbClr val="ffffff"/>
                </a:solidFill>
                <a:latin typeface="Rockwell Extra Bold"/>
              </a:rPr>
              <a:t> – человек, посвятивший свою жизнь Богу, делающий добро и ненавидящий зло, заслуживший у Бога за свою любовь и веру особых даров, например, дара чудотворения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Rockwell Extra Bold"/>
              </a:rPr>
              <a:t>Идеальный образ святого в истории и житийной литератур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ill Sans Ultra Bold Condensed"/>
              </a:rPr>
              <a:t>Имя Святого, ему данно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ill Sans Ultra Bold Condensed"/>
              </a:rPr>
              <a:t>выразительней Велик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ill Sans Ultra Bold Condensed"/>
              </a:rPr>
              <a:t>Н.М. Карам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1374sm"/>
          <p:cNvPicPr/>
          <p:nvPr/>
        </p:nvPicPr>
        <p:blipFill>
          <a:blip r:embed="rId1"/>
          <a:stretch/>
        </p:blipFill>
        <p:spPr>
          <a:xfrm>
            <a:off x="250920" y="2421000"/>
            <a:ext cx="2527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Rockwell Extra Bold"/>
              </a:rPr>
              <a:t>Немного истор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 rot="20712000">
            <a:off x="324000" y="1125360"/>
            <a:ext cx="3708360" cy="2845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 rot="390600">
            <a:off x="5724000" y="907920"/>
            <a:ext cx="3178440" cy="338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3276720" y="3454560"/>
            <a:ext cx="30985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1370"/>
          <p:cNvPicPr/>
          <p:nvPr/>
        </p:nvPicPr>
        <p:blipFill>
          <a:blip r:embed="rId1"/>
          <a:stretch/>
        </p:blipFill>
        <p:spPr>
          <a:xfrm>
            <a:off x="179280" y="189000"/>
            <a:ext cx="8709120" cy="5365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5885"/>
          <p:cNvPicPr/>
          <p:nvPr/>
        </p:nvPicPr>
        <p:blipFill>
          <a:blip r:embed="rId2"/>
          <a:stretch/>
        </p:blipFill>
        <p:spPr>
          <a:xfrm>
            <a:off x="6948360" y="3817800"/>
            <a:ext cx="2000520" cy="3040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5896"/>
          <p:cNvPicPr/>
          <p:nvPr/>
        </p:nvPicPr>
        <p:blipFill>
          <a:blip r:embed="rId3"/>
          <a:stretch/>
        </p:blipFill>
        <p:spPr>
          <a:xfrm>
            <a:off x="179280" y="3716280"/>
            <a:ext cx="2282760" cy="3141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Храм &quot;Сошествия святого духа&quot; и &quot;Троицкий Собор&quot;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4376880"/>
            <a:ext cx="374472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10_707"/>
          <p:cNvPicPr/>
          <p:nvPr/>
        </p:nvPicPr>
        <p:blipFill>
          <a:blip r:embed="rId1"/>
          <a:stretch/>
        </p:blipFill>
        <p:spPr>
          <a:xfrm>
            <a:off x="5954760" y="2106720"/>
            <a:ext cx="3189240" cy="4751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Rockwell Extra Bold"/>
              </a:rPr>
              <a:t>Особенности жития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ll Sans Ultra Bold Condensed"/>
              </a:rPr>
              <a:t>Повествование ведется от 3-го лица</a:t>
            </a:r>
            <a:r>
              <a:rPr b="1" lang="ru-RU" sz="2800" spc="-1" strike="noStrike">
                <a:solidFill>
                  <a:srgbClr val="ffffff"/>
                </a:solidFill>
                <a:latin typeface="Gill Sans Ultra Bold Condense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ll Sans Ultra Bold Condensed"/>
              </a:rPr>
              <a:t>Обилие церковнославянизмов</a:t>
            </a:r>
            <a:r>
              <a:rPr b="1" lang="ru-RU" sz="2800" spc="-1" strike="noStrike">
                <a:solidFill>
                  <a:srgbClr val="ffffff"/>
                </a:solidFill>
                <a:latin typeface="Gill Sans Ultra Bold Condense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ll Sans Ultra Bold Condensed"/>
              </a:rPr>
              <a:t>Основной прием при изображении героя – </a:t>
            </a:r>
            <a:r>
              <a:rPr b="1" i="1" lang="ru-RU" sz="4000" spc="-1" strike="noStrike">
                <a:solidFill>
                  <a:srgbClr val="ffffff"/>
                </a:solidFill>
                <a:latin typeface="Gill Sans Ultra Bold Condensed"/>
              </a:rPr>
              <a:t>идеализац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ll Sans Ultra Bold Condensed"/>
              </a:rPr>
              <a:t>Особый композиционный стр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ll Sans Ultra Bold Condensed"/>
              </a:rPr>
              <a:t>Внутренний мир героя не изображается в развитии, он избранник с момента рождени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ll Sans Ultra Bold Condensed"/>
              </a:rPr>
              <a:t>Пространство и время в житии условно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1376sm"/>
          <p:cNvPicPr/>
          <p:nvPr/>
        </p:nvPicPr>
        <p:blipFill>
          <a:blip r:embed="rId1"/>
          <a:stretch/>
        </p:blipFill>
        <p:spPr>
          <a:xfrm>
            <a:off x="0" y="0"/>
            <a:ext cx="3635280" cy="2822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5896"/>
          <p:cNvPicPr/>
          <p:nvPr/>
        </p:nvPicPr>
        <p:blipFill>
          <a:blip r:embed="rId2"/>
          <a:stretch/>
        </p:blipFill>
        <p:spPr>
          <a:xfrm>
            <a:off x="3132000" y="2286000"/>
            <a:ext cx="3322800" cy="457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1000519671"/>
          <p:cNvPicPr/>
          <p:nvPr/>
        </p:nvPicPr>
        <p:blipFill>
          <a:blip r:embed="rId3"/>
          <a:stretch/>
        </p:blipFill>
        <p:spPr>
          <a:xfrm rot="21253800">
            <a:off x="395280" y="3068280"/>
            <a:ext cx="2448000" cy="360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5893"/>
          <p:cNvPicPr/>
          <p:nvPr/>
        </p:nvPicPr>
        <p:blipFill>
          <a:blip r:embed="rId4"/>
          <a:stretch/>
        </p:blipFill>
        <p:spPr>
          <a:xfrm rot="483000">
            <a:off x="6697440" y="3060720"/>
            <a:ext cx="2251080" cy="33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81520" y="0"/>
            <a:ext cx="34624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5:50:54Z</dcterms:created>
  <dc:creator>user</dc:creator>
  <dc:description/>
  <dc:language>en-US</dc:language>
  <cp:lastModifiedBy>User</cp:lastModifiedBy>
  <dcterms:modified xsi:type="dcterms:W3CDTF">2007-10-31T06:38:34Z</dcterms:modified>
  <cp:revision>18</cp:revision>
  <dc:subject/>
  <dc:title>Слайд 1</dc:title>
</cp:coreProperties>
</file>